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28B7-6F3D-41C9-B9ED-7767068BD08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RPA is an agency of the United States Department of Defense responsible for the new technology development for use by the military. 19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initial purpose is to find ways to address the US military’s concern about survivability of their communication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In 1970s ARPANET became the foundation of today’s inter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Vinton Cerf and Robert Kahn developed the first description of TCP during 1973, and then in May 1974 the first formal description was publish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8664-B17B-4398-9E4F-5C4F80F07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1F85-0AA3-49AD-BAB4-7D01A6BD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79A6-9BBE-4B30-BB99-3A71D6836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EFF7-0AAF-4CB5-899A-526EDC006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1D3B-6147-4A43-B2CB-612E42748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1B9A-677C-4C92-823D-6A2781AE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BA85-74A8-41A2-8C16-0A13BAFE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3F9C-1BCF-4557-89DC-E7A11204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357F-F41D-42E8-A938-079DC36E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DC18-B75C-48C1-80A5-61509B09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2529-88B5-4B9B-A655-AC7E1B14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669B-9452-482E-9DC3-3007CC05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3BC9-DF77-42E0-9DA3-0BB1E41D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519A-6070-49AE-8654-CB849D40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0EBCB-1BD3-4B68-A2A8-CA2E339E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5EB0-C6E0-4A76-8EBE-80EF7ECCA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3FA4-32F7-477E-B855-8D89AE197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A47A-F311-4E1A-85BA-BA1E637F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21AA-3FDF-43FB-BA14-94809E6C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D28D-6FA1-48AE-8CAC-6920E494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E26D-3389-4C82-A07A-7ADCC183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C217-9B19-47B2-99AE-F7B94E37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FE9C-C616-4592-AF07-EE68F4AA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0B9A-DA37-4C47-A0DE-EB0E078F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C4E1-25C5-4312-A4F1-F2DF4A079B34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EED3-500A-4A58-A751-C354B72ECB60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3366"/>
                </a:solidFill>
                <a:latin typeface="Arial"/>
              </a:rPr>
              <a:t>Internet</a:t>
            </a:r>
            <a:endParaRPr b="1" lang="en-US" sz="5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66"/>
                </a:solidFill>
                <a:latin typeface="Arial"/>
              </a:rPr>
              <a:t>By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66"/>
                </a:solidFill>
                <a:latin typeface="Arial"/>
              </a:rPr>
              <a:t>Pablo, Duy and Tao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3635-70F3-45EC-A2D9-785B3880AFD8}" type="datetime">
              <a:rPr b="0" lang="en-US" sz="2800" spc="-1" strike="noStrike">
                <a:solidFill>
                  <a:srgbClr val="006666"/>
                </a:solidFill>
                <a:latin typeface="Arial"/>
              </a:rPr>
              <a:t>07/29/26</a:t>
            </a:fld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net Introdu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dern u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cial impa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ernet Introduc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net Hist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RPA (Advanced Research Project Agenc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Foundation of Intern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RPAN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CP (Transmission Control Protoco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net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dern U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cial Impac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ank you for listening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0:15:27Z</dcterms:created>
  <dc:creator>Microsoft</dc:creator>
  <dc:description/>
  <dc:language>en-US</dc:language>
  <cp:lastModifiedBy>Microsoft</cp:lastModifiedBy>
  <dcterms:modified xsi:type="dcterms:W3CDTF">2010-05-10T11:28:29Z</dcterms:modified>
  <cp:revision>12</cp:revision>
  <dc:subject/>
  <dc:title>Internet</dc:title>
</cp:coreProperties>
</file>